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5293A-0973-4A53-884E-461C27FB3408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 CONAMA tem ampla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Arial"/>
              </a:rPr>
              <a:t>composiçã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que se expressa através do grande número de setores que integram o Plenário. Participam do Conselho os Ministérios, todos os estados da federação, entidades representativas dos municípios, de classe, de natureza ambientalista e técnico-científicas, totalizando até o momento desta redação, 72 membr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 CONAMA tem ampla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Arial"/>
              </a:rPr>
              <a:t>composiçã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que se expressa através do grande número de setores que integram o Plenário. Participam do Conselho os Ministérios, todos os estados da federação, entidades representativas dos municípios, de classe, de natureza ambientalista e técnico-científicas, totalizando até o momento desta redação, 72 membr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 CONAMA tem ampla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Arial"/>
              </a:rPr>
              <a:t>composiçã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que se expressa através do grande número de setores que integram o Plenário. Participam do Conselho os Ministérios, todos os estados da federação, entidades representativas dos municípios, de classe, de natureza ambientalista e técnico-científicas, totalizando até o momento desta redação, 72 membr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REVE DIAGNÓST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 luz da necessidade de preservação do lugar ocupado pelo CONAMA na estrutura do Sistema Nacional do Meio Ambiente, criou-se no âmbito do Ministério do Meio Ambiente, através da Portaria Nº 18  de 08 de fevereiro de 1999, o Grupo de Trabalho “Repensando o CONAMA”, que teve por finalidade fortalecer aquele Colegiado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s pontos observados com coincidência de opiniões pelo grupo podem ser resumidos no que se segu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  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issão Institucional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posição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strutura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   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Arial"/>
              </a:rPr>
              <a:t>comunicação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  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terface com os órgãos afins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   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Arial"/>
              </a:rPr>
              <a:t>processo de avaliação continuo e autonomia financeir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REVE DIAGNÓST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 luz da necessidade de preservação do lugar ocupado pelo CONAMA na estrutura do Sistema Nacional do Meio Ambiente, criou-se no âmbito do Ministério do Meio Ambiente, através da Portaria Nº 18  de 08 de fevereiro de 1999, o Grupo de Trabalho “Repensando o CONAMA”, que teve por finalidade fortalecer aquele Colegiado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s pontos observados com coincidência de opiniões pelo grupo podem ser resumidos no que se segu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  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issão Institucional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posição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strutura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   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Arial"/>
              </a:rPr>
              <a:t>comunicação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  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terface com os órgãos afins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   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Arial"/>
              </a:rPr>
              <a:t>processo de avaliação continuo e autonomia financeir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REVE DIAGNÓST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 luz da necessidade de preservação do lugar ocupado pelo CONAMA na estrutura do Sistema Nacional do Meio Ambiente, criou-se no âmbito do Ministério do Meio Ambiente, através da Portaria Nº 18  de 08 de fevereiro de 1999, o Grupo de Trabalho “Repensando o CONAMA”, que teve por finalidade fortalecer aquele Colegiado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s pontos observados com coincidência de opiniões pelo grupo podem ser resumidos no que se segu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  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issão Institucional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posição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strutura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   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Arial"/>
              </a:rPr>
              <a:t>comunicação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  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terface com os órgãos afins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   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Arial"/>
              </a:rPr>
              <a:t>processo de avaliação continuo e autonomia financeir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8A16-70D0-4213-AA98-1E235B80D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99F1-0E69-4810-9226-12495ED46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3B5B-79D6-4CB7-B834-50FAD0720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C2E5-D7D3-478B-ABC5-AC170C9C3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76BE8-0313-4EDC-AF6C-6BC560C8B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8D488-62AB-4314-871A-E17285308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F75BB-574A-4624-BEB0-F5FDAC099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DF081-12E2-4BD5-BC86-ACBD30DF4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8C271-553D-41B7-9F93-8F7D6A5B1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7A160-C8A9-47A8-AD9E-9D515FE3F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A7F49-D99B-468D-A36D-BFF318630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6689-35D2-45FF-8BE0-ADEBD7CD6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0C2F9-A266-4A39-9876-55A295368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1366A-703B-45EE-9148-50D230D2B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3765B-E249-405D-B90B-0ED1F71F5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82238-82CA-4AD5-86FF-E3B14DCD5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27787-2DDB-435B-81D5-BF77B1F0F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61B0-C03A-47DF-BF2F-5F236074A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1EBF-73AD-48E3-B3FD-A3EBA0864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0858-C27D-4F58-A776-1587ADAE8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DBFC-DBD6-4703-970D-D6F1C5A9D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E908-AEEC-43FB-83C3-E8420AABB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07E0-AD23-48DF-A218-39FB2A639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5AEE-233C-4B9B-BD17-A167C327F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6A12F-1FD9-430B-9D48-87B17728D4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A5BD0-E99A-4C17-A9EA-E1583401BD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93840" y="7621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ELHO NACIONAL DO MEIO AMBIENTE – CONAMA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21932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ÓRUM DOS GRANDES PACTOS AMBIENTAIS NACIONAI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MISSÃO INSTITUCIONAL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1752480"/>
            <a:ext cx="9144000" cy="52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 redefinição das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missões institucionai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do CONAMA, no contexto da política nacional do meio ambiente envolveu a posição unânime  por parte do grupo de que o Colegiado deve assumir o papel condutor de tal política. Para tanto, é necessário que as matérias discutidas no âmbito do Conselho levem em consideração o desenvolvimento de políticas governamentais prevendo a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integração de atividad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de cada um dos entes do SISNAMA com maior integração entre os diversos órgãos que atuam na esfera ambienta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in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COMPOSIÇÃO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1676520"/>
            <a:ext cx="91440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Times New Roman"/>
              </a:rPr>
              <a:t>O processo de composição, menos relacionado ao número  de participantes, mais voltado a princípios norteadores, posicionou-se  segundo: responsabilidade, comprometimento, representatividade e paridade procurando o equilíbrio na distribuição das forças do Plenário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in" orient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ESTRUTURA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152388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A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Times New Roman"/>
              </a:rPr>
              <a:t>estrutura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 do CONAMA foi rediscutida e procurou-se dar maior agilidade nos processos decisórios, sem perda na qualidade das discussões e no conteúdo das deliberações que ocorrem no Plenário, nas Câmaras Técnicas Permanentes e nos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Times New Roman"/>
              </a:rPr>
              <a:t>Grupos de Trabalho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 ora propostos em substituição às atuais Câmara Técnicas Temporária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in" orient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304920"/>
            <a:ext cx="9144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pt-BR" sz="5400" spc="-1" strike="noStrike">
                <a:solidFill>
                  <a:srgbClr val="ffffff"/>
                </a:solidFill>
                <a:latin typeface="Arial"/>
                <a:ea typeface="Times New Roman"/>
              </a:rPr>
              <a:t>Um outro sistema criado, foi o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400" spc="-1" strike="noStrike">
                <a:solidFill>
                  <a:srgbClr val="ff0000"/>
                </a:solidFill>
                <a:latin typeface="Arial"/>
                <a:ea typeface="Times New Roman"/>
              </a:rPr>
              <a:t>Comitê de Integração de Políticas Ambientais</a:t>
            </a:r>
            <a:r>
              <a:rPr b="0" lang="pt-BR" sz="5400" spc="-1" strike="noStrike">
                <a:solidFill>
                  <a:srgbClr val="ffffff"/>
                </a:solidFill>
                <a:latin typeface="Arial"/>
                <a:ea typeface="Times New Roman"/>
              </a:rPr>
              <a:t>,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pt-BR" sz="5400" spc="-1" strike="noStrike">
                <a:solidFill>
                  <a:srgbClr val="ffffff"/>
                </a:solidFill>
                <a:latin typeface="Arial"/>
                <a:ea typeface="Times New Roman"/>
              </a:rPr>
              <a:t>que corresponderá a um alterego ou pequeno senado do CONAMA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in" orient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COMUNICAÇÃO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1752480"/>
            <a:ext cx="91440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Times New Roman"/>
              </a:rPr>
              <a:t>A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  <a:ea typeface="Times New Roman"/>
              </a:rPr>
              <a:t>ausência de comunicação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Times New Roman"/>
              </a:rPr>
              <a:t> também foi lembrada e a partir de posições na Internet e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  <a:ea typeface="Times New Roman"/>
              </a:rPr>
              <a:t> projetos de comunicação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Times New Roman"/>
              </a:rPr>
              <a:t> intra e extra CONAMA foi possível estabelecer esquemas de atualização de informações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in" orient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768240"/>
            <a:ext cx="7772400" cy="159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INTERFACE COM ÓRGÃOS AFINS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167652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Revelou-se oportuna a instituição de um processo d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Times New Roman"/>
              </a:rPr>
              <a:t>acompanhamento e avaliação da efetividade das Resoluçõ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A avaliação dos resultados permite a verificação da aderência do conteúdo das decisões à realidade e serve como instrumento para o melhor direcionamento das atividades do órgão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in" orient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AVALIAÇÃO CONTÍNUA E AUTONOMIA FINANCEIRA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1905120"/>
            <a:ext cx="9144000" cy="44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 agilidade do CONAMA está diretamente relacionada com a possibilidade 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Times New Roman"/>
              </a:rPr>
              <a:t>gerenciamento de seus próprios recurs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. Nesse sentido defendeu-se a criação de uma rubrica orçamentária específica para o CONAMA a fim de que o órgão tenha maior autonomia em relação à alocação de suas finanças e possa, com menor custo burocrático realizar as atividades que lhe são inerentes, como a promoção de debates, cursos, seminários et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in" orient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8160" y="304920"/>
            <a:ext cx="9144000" cy="820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É importante lembrar que o CONAMA é um dos poucos órgãos normativos, no âmbito federal, e um dos únicos com perfil democrático quanto ao processo de formulação de propostas e de deliberaçõ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  <a:ea typeface="Times New Roman"/>
              </a:rPr>
              <a:t>O CONAMA FAZ POLÍTICA NACIONAL 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  <a:ea typeface="Times New Roman"/>
              </a:rPr>
              <a:t>NÃO APENAS POLÍTICA FEDERA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  <a:ea typeface="Times New Roman"/>
              </a:rPr>
              <a:t>É O ESTRUTURADOR DOS GRANDES PACT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  <a:ea typeface="Times New Roman"/>
              </a:rPr>
              <a:t>AMBIENTAIS NACIONAI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8160" y="2849400"/>
            <a:ext cx="91440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in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457200"/>
            <a:ext cx="9144000" cy="75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O Sistema Nacional do Meio Ambiente - SISNAMA, instituído pela Lei 6.938/81, tem como seu órgão de cúpula, o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6600"/>
                </a:solidFill>
                <a:latin typeface="Arial"/>
                <a:ea typeface="Times New Roman"/>
              </a:rPr>
              <a:t>Conselho Nacional do Meio Ambiente:  </a:t>
            </a:r>
            <a:r>
              <a:rPr b="1" lang="en-US" sz="48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CONAMA</a:t>
            </a:r>
            <a:r>
              <a:rPr b="0" lang="en-US" sz="4800" spc="-1" strike="noStrike">
                <a:solidFill>
                  <a:srgbClr val="ff6600"/>
                </a:solidFill>
                <a:latin typeface="Arial"/>
                <a:ea typeface="Times New Roman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  <a:ea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in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228600"/>
            <a:ext cx="9144000" cy="56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ncumbe ao CONAMA, no âmbito d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ua competência originária, o estabelecimento de “normas, critérios e padrões relativos ao controle e à manutenção da qualidade do meio ambiente, com vistas ao uso racional dos recursos ambientais,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principalmente hídrico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, assim como ‘assessorar’, estudar e propor a instâncias superiores do Governo, diretrizes de políticas governamentais para o meio ambiente e recursos ambientais”,  dentre outras funções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in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304920"/>
            <a:ext cx="9144000" cy="6677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pt-BR" sz="3600" spc="-1" strike="noStrike">
                <a:solidFill>
                  <a:srgbClr val="ffffff"/>
                </a:solidFill>
                <a:latin typeface="Arial"/>
                <a:ea typeface="Arial"/>
              </a:rPr>
              <a:t>É importante destacar que ao longo de sua existência, o CONAMA notabilizou-se por atuar na vanguarda da tutela ambiental, servindo  de </a:t>
            </a:r>
            <a:r>
              <a:rPr b="0" lang="pt-BR" sz="3600" spc="-1" strike="noStrike">
                <a:solidFill>
                  <a:srgbClr val="ff0000"/>
                </a:solidFill>
                <a:latin typeface="Arial"/>
                <a:ea typeface="Arial"/>
              </a:rPr>
              <a:t>paradigma</a:t>
            </a:r>
            <a:r>
              <a:rPr b="0" lang="pt-BR" sz="3600" spc="-1" strike="noStrike">
                <a:solidFill>
                  <a:srgbClr val="ffffff"/>
                </a:solidFill>
                <a:latin typeface="Arial"/>
                <a:ea typeface="Arial"/>
              </a:rPr>
              <a:t> para os demais colegiados. A </a:t>
            </a:r>
            <a:r>
              <a:rPr b="0" lang="pt-BR" sz="3600" spc="-1" strike="noStrike">
                <a:solidFill>
                  <a:srgbClr val="ff0000"/>
                </a:solidFill>
                <a:latin typeface="Arial"/>
                <a:ea typeface="Arial"/>
              </a:rPr>
              <a:t>força e a legitimidade</a:t>
            </a:r>
            <a:r>
              <a:rPr b="0" lang="pt-BR" sz="3600" spc="-1" strike="noStrike">
                <a:solidFill>
                  <a:srgbClr val="ffffff"/>
                </a:solidFill>
                <a:latin typeface="Arial"/>
                <a:ea typeface="Arial"/>
              </a:rPr>
              <a:t> de suas decisões geraram a alteração de padrões de produção  e a conscientização das comunidades sobre grandes temas de meio ambiente, além de</a:t>
            </a:r>
            <a:r>
              <a:rPr b="0" lang="pt-BR" sz="3600" spc="-1" strike="noStrike">
                <a:solidFill>
                  <a:srgbClr val="ff0000"/>
                </a:solidFill>
                <a:latin typeface="Arial"/>
                <a:ea typeface="Arial"/>
              </a:rPr>
              <a:t> balizar</a:t>
            </a:r>
            <a:r>
              <a:rPr b="0" lang="pt-BR" sz="3600" spc="-1" strike="noStrike">
                <a:solidFill>
                  <a:srgbClr val="ffffff"/>
                </a:solidFill>
                <a:latin typeface="Arial"/>
                <a:ea typeface="Arial"/>
              </a:rPr>
              <a:t>  as ações de governo, nos diversos níveis de competência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in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9144000" cy="115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  <a:ea typeface="Arial"/>
              </a:rPr>
              <a:t>No uso de suas atribuições diversas, são as </a:t>
            </a:r>
            <a:r>
              <a:rPr b="1" lang="pt-BR" sz="2800" spc="-1" strike="noStrike">
                <a:solidFill>
                  <a:srgbClr val="ff0000"/>
                </a:solidFill>
                <a:latin typeface="Arial"/>
                <a:ea typeface="Arial"/>
              </a:rPr>
              <a:t>RESOLUÇÕES CONAMA, 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  <a:ea typeface="Arial"/>
              </a:rPr>
              <a:t>que lograram </a:t>
            </a:r>
            <a:r>
              <a:rPr b="0" lang="pt-BR" sz="2800" spc="-1" strike="noStrike">
                <a:solidFill>
                  <a:srgbClr val="ff0000"/>
                </a:solidFill>
                <a:latin typeface="Arial"/>
                <a:ea typeface="Arial"/>
              </a:rPr>
              <a:t>repercussão nacional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  <a:ea typeface="Arial"/>
              </a:rPr>
              <a:t>Programa Nacional de Controle da Poluição por Veículos Automotores - </a:t>
            </a:r>
            <a:r>
              <a:rPr b="0" lang="pt-BR" sz="2800" spc="-1" strike="noStrike">
                <a:solidFill>
                  <a:srgbClr val="ff0000"/>
                </a:solidFill>
                <a:latin typeface="Arial"/>
                <a:ea typeface="Arial"/>
              </a:rPr>
              <a:t>PROCONVE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  <a:ea typeface="Arial"/>
              </a:rPr>
              <a:t>, cujos impactos sobre a indústria automobilística são inegávei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  <a:ea typeface="Arial"/>
              </a:rPr>
              <a:t>Estudos de Impacto Ambiental - </a:t>
            </a:r>
            <a:r>
              <a:rPr b="0" lang="pt-BR" sz="2800" spc="-1" strike="noStrike">
                <a:solidFill>
                  <a:srgbClr val="ff0000"/>
                </a:solidFill>
                <a:latin typeface="Arial"/>
                <a:ea typeface="Arial"/>
              </a:rPr>
              <a:t>EIA/RIMA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  <a:ea typeface="Arial"/>
              </a:rPr>
              <a:t>, responsável pela multiplicação de análises ambientais por todo o país, com a incorporação dos mecanismos das </a:t>
            </a:r>
            <a:r>
              <a:rPr b="0" lang="pt-BR" sz="2800" spc="-1" strike="noStrike">
                <a:solidFill>
                  <a:srgbClr val="ff0000"/>
                </a:solidFill>
                <a:latin typeface="Arial"/>
                <a:ea typeface="Arial"/>
              </a:rPr>
              <a:t>Audiências Públicas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  <a:ea typeface="Arial"/>
              </a:rPr>
              <a:t>, inserindo a comunidade no processo ambiental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  <a:ea typeface="Arial"/>
              </a:rPr>
              <a:t>Rápida intervenção do CONAMA quando do </a:t>
            </a:r>
            <a:r>
              <a:rPr b="0" lang="pt-BR" sz="2400" spc="-1" strike="noStrike">
                <a:solidFill>
                  <a:srgbClr val="ff0000"/>
                </a:solidFill>
                <a:latin typeface="Arial"/>
                <a:ea typeface="Arial"/>
              </a:rPr>
              <a:t>acidente petrolífero na Refinaria da Petrobrás em Duque de Caxias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  <a:ea typeface="Arial"/>
              </a:rPr>
              <a:t> ocorrido a 18 de janeiro de 2000. A 27 de janeiro, portanto, 9 dias após o ocorrido, o CONAMA, reunido extraordinariamente, deliberou através de Resolução, diversas providências que já estão em andament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in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3886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304920"/>
            <a:ext cx="9144000" cy="69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pt-BR" sz="3200" spc="-1" strike="noStrike">
                <a:solidFill>
                  <a:srgbClr val="ff0000"/>
                </a:solidFill>
                <a:latin typeface="Arial"/>
                <a:ea typeface="Arial"/>
              </a:rPr>
              <a:t>Processo de licenciamento ( SLAP )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  <a:ea typeface="Arial"/>
              </a:rPr>
              <a:t>, reconhecendo aos </a:t>
            </a:r>
            <a:r>
              <a:rPr b="0" lang="pt-BR" sz="3200" spc="-1" strike="noStrike">
                <a:solidFill>
                  <a:srgbClr val="ff0000"/>
                </a:solidFill>
                <a:latin typeface="Arial"/>
                <a:ea typeface="Arial"/>
              </a:rPr>
              <a:t>Municípios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  <a:ea typeface="Arial"/>
              </a:rPr>
              <a:t> o pleno exercício da tutela do meio ambiente dentro da esfera de competência local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  <a:ea typeface="Arial"/>
              </a:rPr>
              <a:t>formulação da </a:t>
            </a:r>
            <a:r>
              <a:rPr b="0" lang="pt-BR" sz="3200" spc="-1" strike="noStrike">
                <a:solidFill>
                  <a:srgbClr val="ff0000"/>
                </a:solidFill>
                <a:latin typeface="Arial"/>
                <a:ea typeface="Arial"/>
              </a:rPr>
              <a:t>Política Nacional de Resíduos Sólidos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t-BR" sz="3200" spc="-1" strike="noStrike">
                <a:solidFill>
                  <a:srgbClr val="ff0000"/>
                </a:solidFill>
                <a:latin typeface="Arial"/>
                <a:ea typeface="Arial"/>
              </a:rPr>
              <a:t>Acidente petrolífero na Refinaria da Petrobrás em Duque de Caxias,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pt-BR" sz="3000" spc="-1" strike="noStrike">
                <a:solidFill>
                  <a:srgbClr val="ffffff"/>
                </a:solidFill>
                <a:latin typeface="Arial"/>
                <a:ea typeface="Arial"/>
              </a:rPr>
              <a:t>ocorrido a 18 de janeiro de 2000. A 27 de janeiro, portanto, 9 dias após o ocorrido, o CONAMA,  extraordinariamente, deliberou através de Resolução, diversas providências que já estão em andamento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in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380880"/>
            <a:ext cx="9144000" cy="62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O CONAMA tem ampl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composição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e se expressa através do grande número de setores que integram o Plenário. Participam do Conselho os Ministérios, todos os estados da federação, entidades representativas dos municípios, de classe, de natureza ambientalista e técnico-científicas, totalizando até o momento desta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edação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,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4000" spc="-1" strike="noStrike">
                <a:solidFill>
                  <a:srgbClr val="ff6600"/>
                </a:solidFill>
                <a:latin typeface="Arial"/>
                <a:ea typeface="Arial"/>
              </a:rPr>
              <a:t>73 membros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in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380880"/>
            <a:ext cx="9144000" cy="65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Arial"/>
                <a:ea typeface="Arial"/>
              </a:rPr>
              <a:t>BREVE DIAGNÓSTIC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0" lang="pt-BR" sz="3600" spc="-1" strike="noStrike">
                <a:solidFill>
                  <a:srgbClr val="ffffff"/>
                </a:solidFill>
                <a:latin typeface="Arial"/>
                <a:ea typeface="Arial"/>
              </a:rPr>
              <a:t>A luz da necessidade de preservação do lugar ocupado pelo CONAMA na estrutura do Sistema Nacional do Meio Ambiente, criou-se no âmbito do Ministério do Meio Ambiente, através da Portaria Nº 18  de 08 de fevereiro de 1999, o Grupo de Trabalho </a:t>
            </a:r>
            <a:r>
              <a:rPr b="0" lang="pt-BR" sz="3600" spc="-1" strike="noStrike">
                <a:solidFill>
                  <a:srgbClr val="ff6600"/>
                </a:solidFill>
                <a:latin typeface="Arial"/>
                <a:ea typeface="Arial"/>
              </a:rPr>
              <a:t>“Repensando o CONAMA</a:t>
            </a:r>
            <a:r>
              <a:rPr b="0" lang="pt-BR" sz="3600" spc="-1" strike="noStrike">
                <a:solidFill>
                  <a:srgbClr val="ffffff"/>
                </a:solidFill>
                <a:latin typeface="Arial"/>
                <a:ea typeface="Arial"/>
              </a:rPr>
              <a:t>”, que teve por finalidade fortalecer aquele Colegiado,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in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3276720"/>
            <a:ext cx="8763120" cy="31240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914400"/>
            <a:ext cx="9144000" cy="55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  <a:ea typeface="Arial"/>
              </a:rPr>
              <a:t>A 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  <a:ea typeface="Arial"/>
              </a:rPr>
              <a:t>Os pontos observados com coincidência de opiniões pelo grupo podem ser resumidos no que se segu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0000"/>
                </a:solidFill>
                <a:latin typeface="Arial"/>
                <a:ea typeface="Arial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     </a:t>
            </a:r>
            <a:r>
              <a:rPr b="0" lang="pt-BR" sz="2800" spc="-1" strike="noStrike">
                <a:solidFill>
                  <a:srgbClr val="cc0000"/>
                </a:solidFill>
                <a:latin typeface="Arial"/>
                <a:ea typeface="Arial"/>
              </a:rPr>
              <a:t>Missão Institucion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     </a:t>
            </a:r>
            <a:r>
              <a:rPr b="0" lang="pt-BR" sz="2800" spc="-1" strike="noStrike">
                <a:solidFill>
                  <a:srgbClr val="cc0000"/>
                </a:solidFill>
                <a:latin typeface="Arial"/>
                <a:ea typeface="Arial"/>
              </a:rPr>
              <a:t>Composição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     </a:t>
            </a:r>
            <a:r>
              <a:rPr b="0" lang="pt-BR" sz="2800" spc="-1" strike="noStrike">
                <a:solidFill>
                  <a:srgbClr val="cc0000"/>
                </a:solidFill>
                <a:latin typeface="Arial"/>
                <a:ea typeface="Arial"/>
              </a:rPr>
              <a:t>Estrutu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     </a:t>
            </a:r>
            <a:r>
              <a:rPr b="0" lang="pt-BR" sz="2800" spc="-1" strike="noStrike">
                <a:solidFill>
                  <a:srgbClr val="cc0000"/>
                </a:solidFill>
                <a:latin typeface="Arial"/>
                <a:ea typeface="Arial"/>
              </a:rPr>
              <a:t>Comunicaçã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     </a:t>
            </a:r>
            <a:r>
              <a:rPr b="0" lang="pt-BR" sz="2800" spc="-1" strike="noStrike">
                <a:solidFill>
                  <a:srgbClr val="cc0000"/>
                </a:solidFill>
                <a:latin typeface="Arial"/>
                <a:ea typeface="Arial"/>
              </a:rPr>
              <a:t>Interface com os órgãos afi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     </a:t>
            </a:r>
            <a:r>
              <a:rPr b="0" lang="pt-BR" sz="2800" spc="-1" strike="noStrike">
                <a:solidFill>
                  <a:srgbClr val="cc0000"/>
                </a:solidFill>
                <a:latin typeface="Arial"/>
                <a:ea typeface="Arial"/>
              </a:rPr>
              <a:t>Processo de avaliação continuo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c0000"/>
                </a:solidFill>
                <a:latin typeface="Arial"/>
                <a:ea typeface="Arial"/>
              </a:rPr>
              <a:t> </a:t>
            </a:r>
            <a:r>
              <a:rPr b="0" lang="pt-BR" sz="2800" spc="-1" strike="noStrike">
                <a:solidFill>
                  <a:srgbClr val="cc0000"/>
                </a:solidFill>
                <a:latin typeface="Arial"/>
                <a:ea typeface="Arial"/>
              </a:rPr>
              <a:t>Autonomia financei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cc0000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in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9T17:53:38Z</dcterms:created>
  <dc:creator>Prof. Paulo Finotti</dc:creator>
  <dc:description/>
  <dc:language>en-US</dc:language>
  <cp:lastModifiedBy>Cajinho</cp:lastModifiedBy>
  <dcterms:modified xsi:type="dcterms:W3CDTF">2004-01-25T14:19:22Z</dcterms:modified>
  <cp:revision>21</cp:revision>
  <dc:subject/>
  <dc:title>CONSELHO NACIONAL DO MEIO AMBIENTE – CONAMA </dc:title>
</cp:coreProperties>
</file>